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0354-18AE-42DD-98B8-3FE4E12F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64F3-9483-411E-8B66-DF7FEF1D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50A0-A73B-49F4-8A67-2CFF2BEFD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44C3-0D5B-43A5-B93D-A5DED3150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BFC0-C3F7-44AF-920B-DF085A74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0996-D493-48F9-9EE1-8BE85F5E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9677-0395-4F2C-AE00-333C6040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F6DF-3B21-40A3-BDCE-E6164621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BD70-D840-4EA5-B0F4-8C1361D2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3C7E-E71C-45C4-90B9-9D367FCA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EF59-D8F1-4789-AA03-731B8198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B4C5-BB0C-45A8-BC64-F3DED0E0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953A-43A4-4FE1-A13A-3496C0331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5256360" cy="3600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592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olas"/>
              </a:rPr>
              <a:t>&amp;% COMPUTERS @#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981000"/>
            <a:ext cx="856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hey’re a lot easier then you might exp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013360"/>
            <a:ext cx="914400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ee one on one computer and internet train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branch staff for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9280" y="6165720"/>
            <a:ext cx="2017800" cy="500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093080" y="6237360"/>
            <a:ext cx="1871640" cy="425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73760" y="6237360"/>
            <a:ext cx="465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through the CAP Funding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7:00:35Z</dcterms:created>
  <dc:creator>Amanda Mills</dc:creator>
  <dc:description/>
  <dc:language>en-US</dc:language>
  <cp:lastModifiedBy>Amanda Mills</cp:lastModifiedBy>
  <dcterms:modified xsi:type="dcterms:W3CDTF">2009-01-15T18:12:54Z</dcterms:modified>
  <cp:revision>4</cp:revision>
  <dc:subject/>
  <dc:title>Slide 1</dc:title>
</cp:coreProperties>
</file>